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6F9-2B8D-465B-B18D-A1523E57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3CF-FF32-4EFC-987B-991C4A8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2EB-E914-4262-85BC-238DDDB5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B54-3B21-4EF2-84BB-07C2E9DA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A5ED-6FF8-4C47-8446-FFB56EDF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9098-3F7D-48D8-83EA-6B99799C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C76B-2CB6-43AE-ACF4-6BCE833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6324-91F3-474B-A25C-1E3364C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E7E-95D4-4161-9F7B-4E23BCD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AFF-39EB-42F5-83E4-E5B9CB45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26AC-D615-41FC-A803-FAC01E1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366-A0DE-4585-9A02-A044481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37A-BE51-4BF1-815D-CF9D222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8E4B-8B34-4555-B061-F60633D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A6CC-E723-42E1-9481-91E28A3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A64-D40C-496D-A561-A9C6D36D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BE1-896C-4C59-9579-CEF69F52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748-C013-4695-998C-59C5D110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B67-834B-471B-BA8F-72FD6D6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2BF-0A1C-4AC6-A964-107C48F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AC9-ED7C-461E-A4EB-B8D0BA8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57B-E596-4C94-8A20-1F44247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F44-AB26-48BB-BF69-053306DC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A78-6068-4ECA-953D-5088D5D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A707-B6E5-40D2-BE14-ECDF3D4D5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7FA-989A-4256-8CC4-7B2C09D30BD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ill There Was No Remed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6, Lesson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gs. 78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Kings 11-12; J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iada Renews The Covena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hoiada, the Priest, removed Athaliah as Queen – 2 Kgs.11:1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laims Joash as the king of J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makes covenants between the Lord, the king, and the people -  17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estroy the idols of B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year old Joash is led into the palace and takes his place on the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el the Prophe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work complemented the work of Jehoiada in calling upon the people to rep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vere locust invasion had ravaged th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of J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vastation of the locusts – 1:2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to repentance – 1:13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 of the Lord – 2:1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cond call to repentance – 2:12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line of Joe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ise of Blessings – 2:18-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ouring of God’s Spirit – 2:28-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filled in Ac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ory Promised to God’s People – 3:1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ah and Israe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sh takes two wives -2 Chron.24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sh commands that the temple be repaired -2 Kgs.12: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ear of Jo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airing the temple – 2 Kgs.12:6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ehu is still reig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ath of Je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ehoahaz – 17 years (evil) – 2 Kgs.13:1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s character – 2 Kgs.13: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3:53:36Z</dcterms:created>
  <dc:creator>Terry W. Benton</dc:creator>
  <dc:description/>
  <dc:language>en-US</dc:language>
  <cp:lastModifiedBy>Terry W. Benton</cp:lastModifiedBy>
  <dcterms:modified xsi:type="dcterms:W3CDTF">2005-09-07T14:26:48Z</dcterms:modified>
  <cp:revision>2</cp:revision>
  <dc:subject/>
  <dc:title>Till There Was No Remedy</dc:title>
</cp:coreProperties>
</file>